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864B-E8A2-46EA-ABB2-7F2BB6533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1C75-224B-470C-A56E-33FCE9169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3CF9-1B27-453D-B8D4-E18719565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2C45-77C3-41BD-9620-A603F0761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AC5-5FDC-4FED-A770-BC8F9224D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336-9707-424C-A770-A64EBDF4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9EB-B2D4-4461-B3B2-937AAC2E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834-17B0-4726-BF35-FF4F5C69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1F1-0243-4BF2-9544-0CC166E2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C858-F707-4414-9C87-47C535D6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4431-1A75-42C6-8D21-68F6642A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DCB8-815C-4BA8-8896-4D8E75CD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1395-5311-440E-8ED0-56FDEB8F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C7A9-6CEB-4F15-A419-66EC6277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B0ED-8ED6-4AD7-B538-956DAC0B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282D-88E7-420A-B91C-444BDB1D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DF4-A525-4082-9842-E264E9F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33A1-EA54-4264-A401-60DA26A1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1B37-3AA3-4C11-A662-B79A1F5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9065-C0A9-40AB-AEB7-8D85B012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781A-DD09-453C-B3B2-77F98712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3D4-236F-471F-BE0B-827F6C47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E8D5E-ACF1-49EA-8F87-2ECD3703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60293-83C1-406B-9471-E8CAF77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FDD59-F93A-46AE-81E8-2D38CFD4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5ACFF-F2D5-4744-AE57-42AD7024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8A333-E186-467B-B551-328CF087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E46-D4F2-4EAD-942D-A609DCBA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7256B-6DB9-4993-B9B3-59B5ADA6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E7D2D-0A5F-4F56-9D57-C7CE9F5A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B03F9-263B-4E3E-9BD5-AABF6476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3E75B-11D9-4620-A1F0-E03A10CE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4BAE6-18B4-46B3-818B-83E7AF4E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91111-3BD8-40AB-A59D-94AAF322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27DBF-1E55-4050-9C8E-8259FD1D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72A15-EEBA-4C9A-BB1C-8D024248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91C18-D9F1-4671-86AF-0CF25DE0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28C28-6CBF-457C-AF24-DD83F4ED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B6E-1690-4051-92A9-00882B12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C6409-8321-4188-92BE-00BAD34E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4163A-F299-4780-A3DF-3536C36B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BD1C2-08AA-43C2-BEBE-6423C6F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D9F5D-5D15-4D08-9620-C0A77F2E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40712-17F7-48BD-9CB0-0E7A2C4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9F0058-4DA3-4A21-801F-986D505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35715-FA9B-44A7-840B-F6C507B1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E396A-EEA3-4726-9C0C-FDAA857A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A11EC-E37D-44B6-A95D-5D120C6E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12E86-9C5F-432B-B335-C9F8CC3B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34F-E25F-424F-9799-D22807AD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84316-D012-46D8-8114-7B5F142F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3484C-CB88-47EC-8080-BC8507B8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BE7BC-A490-4DEB-A20C-EC92D9E8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65B96-4A87-4E85-B325-3331855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28AA4-CD29-47DF-A1CC-CB195D8B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27B1D-7E56-4804-ABB6-E13251DC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E3C13-1E9A-462C-ABE2-0B64171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1555A-6D00-4A68-B852-FB95CEC4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C61AF-A31A-4E60-8381-5DD94A47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53C3C-A98E-4634-B015-30F66A50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35C-1417-4A5C-B217-7E1213F2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2261A-F73C-410C-AF90-7D97A304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D143-CD71-4F22-84E7-C84D8037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C7DA4-C00E-4FE4-9F2C-5F8BAC24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74515-96B0-4708-B536-63158074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2C85A-511E-4FA4-8E15-D22EE559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22C74-21C0-452F-9D07-75B766C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0B0DA-199F-42DD-920C-3BF82B0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6998C-D61F-4224-9ED5-AF59F10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F56A-EA8C-4FBE-B0F4-293708AA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32B3C-6B71-4386-94A9-3514AA21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E11-06E4-484E-B28C-4372B2A4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6CD11-BE50-4A16-865C-799B5FBD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3A252-BDBD-4DFD-A4F7-468A5C2F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EAFEB-350E-4C69-8EBC-66011EF5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D2069-A557-405A-9D7B-8D77012F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941D79-E768-4ADF-92E9-03DCF51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22195-A0A9-4634-B766-5F6E2478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2D37B-8602-4422-85F9-C4385EF6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AC092-8574-49BA-AA73-073CA8F3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18547-B34E-4FEC-94A1-2C28DCDE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97E79-83D4-4FA7-BD45-D56D0AB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343-5941-43C5-A56A-C5E687DF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2BDC97-193D-4887-AD9E-4135E22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B422D-D4C1-47BC-BC22-A06BA2A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E2BC5-0221-4892-A13B-FF7DB5BA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13DDD-9354-499C-82C1-255B13C8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5CCA2-F32E-4FA4-B510-445239D8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1EE6E-3CA1-4D8A-8362-514D0EAF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BBBC0-B815-42FF-8263-00760564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AE2FD-AF90-48FA-AD4C-C7E28EE1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5C4C7-A744-4FA3-979B-C577589D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DC41A-D479-4958-BD6C-C25E996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84C-1335-4302-A358-5D4DBCA8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5F16D-FA89-46E2-A516-3451196F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D671F-FA64-4F42-8190-57D6798A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E7040-E215-432B-B8AB-DF8CF9F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2C027-4ED5-4E7F-9BD8-000A8DC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B3D91-B93B-49B8-AC61-10017ABB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31A62-D196-430D-9B64-E4C31737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86D90-810F-47B0-AD15-E41155A7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D8A0-AF64-4C4B-8898-3CAC69B3955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A114-2E6C-465E-8772-C3A7EB825BF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8435-A949-40DE-A8EA-663B7F06A01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1E64-5FD6-4C2F-BE48-2042EF63DBE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1E3A-F9D6-4B6E-A28A-EF344565FF0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84D4-F3E1-40BA-B20A-EEC6819E115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39F0-44F7-448B-8B2F-45AC2233096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F3A2-3D64-47D5-81AC-648B4F55AA7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18284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MELISSA CYR</a:t>
            </a:r>
            <a:endParaRPr b="0" lang="en-US" sz="9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w Cen MT"/>
              </a:rPr>
              <a:t>In a Nutshell…</a:t>
            </a:r>
            <a:endParaRPr b="0" lang="en-US" sz="4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 just got married 3 months ago on March 5, 2011.  My husband and I have been together for 9 years. The wedding was perfec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JUST MARRIED!!!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1" name="Picture Placeholder 11" descr="Married3.JPG"/>
          <p:cNvPicPr/>
          <p:nvPr/>
        </p:nvPicPr>
        <p:blipFill>
          <a:blip r:embed="rId1"/>
          <a:srcRect l="0" t="4574" r="0" b="4574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ex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3" name="Content Placeholder 7" descr="Al.JPG"/>
          <p:cNvPicPr/>
          <p:nvPr/>
        </p:nvPicPr>
        <p:blipFill>
          <a:blip r:embed="rId1"/>
          <a:stretch/>
        </p:blipFill>
        <p:spPr>
          <a:xfrm>
            <a:off x="228600" y="1600200"/>
            <a:ext cx="3429000" cy="4419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Al2.JPG"/>
          <p:cNvPicPr/>
          <p:nvPr/>
        </p:nvPicPr>
        <p:blipFill>
          <a:blip r:embed="rId2"/>
          <a:stretch/>
        </p:blipFill>
        <p:spPr>
          <a:xfrm>
            <a:off x="3733920" y="1600200"/>
            <a:ext cx="5181480" cy="44197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228600" y="6172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on, Alex. He is 12 years old. He is just finishing his first year of Middle School and will be in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de next year. *GUL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UPPIES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4" descr="Biscuit.JPG"/>
          <p:cNvPicPr/>
          <p:nvPr/>
        </p:nvPicPr>
        <p:blipFill>
          <a:blip r:embed="rId1"/>
          <a:stretch/>
        </p:blipFill>
        <p:spPr>
          <a:xfrm>
            <a:off x="609480" y="2101680"/>
            <a:ext cx="4267440" cy="3994200"/>
          </a:xfrm>
          <a:prstGeom prst="rect">
            <a:avLst/>
          </a:prstGeom>
          <a:ln w="0">
            <a:noFill/>
          </a:ln>
        </p:spPr>
      </p:pic>
      <p:pic>
        <p:nvPicPr>
          <p:cNvPr id="368" name="Content Placeholder 5" descr="Bruno.JPG"/>
          <p:cNvPicPr/>
          <p:nvPr/>
        </p:nvPicPr>
        <p:blipFill>
          <a:blip r:embed="rId2"/>
          <a:stretch/>
        </p:blipFill>
        <p:spPr>
          <a:xfrm>
            <a:off x="4844880" y="2209680"/>
            <a:ext cx="4299120" cy="31244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609480" y="6248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iscuit, my 4 month old female puppy and Bruno, my three year old.  Both are Boston Terriers.  I love these pu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b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1" name="Content Placeholder 4" descr="Sunset.jpg"/>
          <p:cNvPicPr/>
          <p:nvPr/>
        </p:nvPicPr>
        <p:blipFill>
          <a:blip r:embed="rId1"/>
          <a:stretch/>
        </p:blipFill>
        <p:spPr>
          <a:xfrm>
            <a:off x="304920" y="1828800"/>
            <a:ext cx="3168360" cy="2133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800240" y="167652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rden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cuba Div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ok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3" name="Picture 5" descr="Squba.JPG"/>
          <p:cNvPicPr/>
          <p:nvPr/>
        </p:nvPicPr>
        <p:blipFill>
          <a:blip r:embed="rId2"/>
          <a:stretch/>
        </p:blipFill>
        <p:spPr>
          <a:xfrm>
            <a:off x="304920" y="4191120"/>
            <a:ext cx="3200400" cy="2298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ccstudent\Local Settings\Temporary Internet Files\Content.IE5\FNBMRHET\MC900437990[1].wmf"/>
          <p:cNvPicPr/>
          <p:nvPr/>
        </p:nvPicPr>
        <p:blipFill>
          <a:blip r:embed="rId3"/>
          <a:stretch/>
        </p:blipFill>
        <p:spPr>
          <a:xfrm>
            <a:off x="3505320" y="419112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C:\Documents and Settings\ccstudent\Local Settings\Temporary Internet Files\Content.IE5\ERQK5WVO\MC900279884[1].wmf"/>
          <p:cNvPicPr/>
          <p:nvPr/>
        </p:nvPicPr>
        <p:blipFill>
          <a:blip r:embed="rId4"/>
          <a:stretch/>
        </p:blipFill>
        <p:spPr>
          <a:xfrm>
            <a:off x="6705720" y="4267080"/>
            <a:ext cx="2438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hildr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amil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ompass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Content Placeholder 5" descr="sub-head-start.gif"/>
          <p:cNvPicPr/>
          <p:nvPr/>
        </p:nvPicPr>
        <p:blipFill>
          <a:blip r:embed="rId1"/>
          <a:stretch/>
        </p:blipFill>
        <p:spPr>
          <a:xfrm>
            <a:off x="3048120" y="3733920"/>
            <a:ext cx="4495680" cy="23619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2666880" y="21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arent/Child Advocate in Haverhill, 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609480" y="62485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rk full-time as a Parent/Child Advocate for Early Head Start with children 0-3 and their fami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HOO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6" descr="Cambridge-College-Cambridge-9F1618CC.jpg"/>
          <p:cNvPicPr/>
          <p:nvPr/>
        </p:nvPicPr>
        <p:blipFill>
          <a:blip r:embed="rId1"/>
          <a:stretch/>
        </p:blipFill>
        <p:spPr>
          <a:xfrm>
            <a:off x="609480" y="2057400"/>
            <a:ext cx="3886200" cy="4267080"/>
          </a:xfrm>
          <a:prstGeom prst="rect">
            <a:avLst/>
          </a:prstGeom>
          <a:ln w="0">
            <a:noFill/>
          </a:ln>
        </p:spPr>
      </p:pic>
      <p:pic>
        <p:nvPicPr>
          <p:cNvPr id="383" name="Content Placeholder 7" descr="about-cambridgecollege.jpg"/>
          <p:cNvPicPr/>
          <p:nvPr/>
        </p:nvPicPr>
        <p:blipFill>
          <a:blip r:embed="rId2"/>
          <a:stretch/>
        </p:blipFill>
        <p:spPr>
          <a:xfrm>
            <a:off x="4800600" y="3044880"/>
            <a:ext cx="3886200" cy="23684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CAMBRIDGE COLLE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One Year Left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17:36:41Z</dcterms:created>
  <dc:creator>ccstudent</dc:creator>
  <dc:description/>
  <dc:language>en-US</dc:language>
  <cp:lastModifiedBy>ccstudent</cp:lastModifiedBy>
  <dcterms:modified xsi:type="dcterms:W3CDTF">2011-06-12T13:16:42Z</dcterms:modified>
  <cp:revision>22</cp:revision>
  <dc:subject/>
  <dc:title>Slide 1</dc:title>
</cp:coreProperties>
</file>